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E9B1-E88F-4E69-8FE0-38B1954968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ubject/Verb Agree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plural words that come after the verb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’s biggest problem are the many sleepless nigh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’s biggest problem [singular subject] is [singular verb] the many sleepless nigh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und search for mountain li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und searches for mountain l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und searches for mountain l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nd sear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 Dan see racco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 Dan sees racco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 Dan sees raccoons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ld Dan se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plural words that come between a singular subject and the ver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pic of these books are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pic [singular subject] of these books is [singular verb]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of the dogs hunt w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[singular subject] of the do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nts [singular verb] w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one of the members of both hunting teams are 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one [singular subject] of the members of both hunting teams is [singular verb] 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ingular subject needs a singular verb, and a plural subject needs a plural verb. (Reminder:  The verb is the action word in the sentence. The subject is who or what does the action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of the traps needs to be s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of the traps need to be s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of the traps needs to be s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nee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 in the brown shoes wants a lollipo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 in the brown shoes want a lollipo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 in the brown shoes wants a lollipop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 w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phrases such as along with, together with, accompanied by, as well as, including and in addition t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ttle Ann, as well as Old Dan, like to hu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ttle Ann [singular subject] , as well as Old Dan, likes [singular verb] to hu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, in addition to all the other boys in the mountains, grow up loving hound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[singular subject], in addition to all the other boys in the mountains, grows [singular verb] up loving hound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a, as well as Mama, worries about Billy being out all night lo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a, as well as Mama, worry about Billy being out all night lo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a, as well as Mama, worries about Billy being out all night long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a wor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bread, in addition to some warm milk, are good for pupp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bread, in addition to some warm milk, is good for pupp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jects and verbs must work together. They must agree. A verb that ends in a single -s, -es, or -ies  is used with a singular nou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bread, in addition to some warm milk, is good for puppie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bread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either/or and neither/n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Billy nor Little Ann knows which way the raccoon r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Both parts are singular, so use a singular verb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the boys nor the girls know which way the raccoon r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Both parts are plural, so use a plural verb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the dogs nor Billy knows which way the raccoon r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ne part is plural and one part is singular. The singular part comes right before the verb, so use a singular verb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Billy nor the hounds know which way the raccoon r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ne part is plural and one part is singular. The plural part comes right before the verb, so use a plural verb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Little Ann or Old Dan hunt during the heat of the summ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Little Ann or Old Dan hunts during the heat of the summ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the boys or their mother sings in the church cho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the boys or their mother sing in the church cho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the boys or their mother sings in the church choir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her s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Grandpa or Billy grind corn at the general st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Grandpa or Billy grinds corn at the general st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 Either Grandpa or Billy grinds corn at the general stor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(one) gri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noun phrases referring to a single un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a noun phrase sounds plural but describes something we think of as a single unit. These noun phrases take a singular ver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ghetti and meatballs is [singular] my favorite din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e cream and cake is [singular] my favorite desse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anut butter and jelly are Billy’s favorite sandwi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anut butter and jelly is Billy’s favorite sandwi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aroni and cheese is a healthy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aroni and cheese are a healthy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aroni and cheese is a healthy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nouns that look plural but are actually singul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ws [singular] of the coon hunt spreads through the t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mps [singular] makes one's cheeks hurt and causes swelling and fev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ematics [singular] is my best subject in scho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les is contagio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les are contagio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asles is contagio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erb that does not end in a single s, es, or ies is used with a plural no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nouns of amou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a singular verb with sums of money or periods of ti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ve hundred dollars are a lot of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ve hundred dollars is a lot of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hours are a long time to wa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hours is a long time to wa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ty dollars buy two coon hou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ty dollars buys two coon hou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ty dollars buys two coon hou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years totals a long time for Billy to save his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years total a long time for Billy to save his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years totals a long time for Billy to save his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 – Number your paper from 1 to 15. Write the correct answer for each of the following i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Billy (fix, fixes) breakfast before heading ho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boy pup (play, plays) with the girl pu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Each of the names (sound, sounds) perfect to Billy's e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With his extra money, Billy (buy, buys) gifts for his fami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Ma (cry, cries) with relief when she sees that Billy is saf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Billy names the boy pup Old Dan. He (like, likes) the sound of the na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Billy tells his sisters about the soda pop. It (taste, tastes) sweet and bubb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The fire escape was a pipe that ran up the side of the building. It (appear, appears) funny-look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Little Ann was the smartest of the two hounds. She (guide, guides) Old Dan out of troub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 Papa easily forgives Billy for running off. He (know, knows) he would have done the same thing at Billy's ag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. Which of the following is written correctl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want to go to scho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ndpa loves to tease Bi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isy give milk each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a please Mama with a hu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. Which of the following sentences does not contain a mista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 eat the candy one piece at a ti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s spread quickly through the mountai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Billy or his grandpa like eating raw eggs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son Rawls narrates a wonderful story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raccoon [singular subject] jumps [singular verb] into the sycamore tre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raccoons [plural subject] jump [plural verb] into the sycamore t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ittle Ann [singular subject] is [singular verb] kin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ittle Ann and Old Dan [plural subject] are [plural verb] ki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. Choose the answer that is written correct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dogs bellows through the nigh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man with all the dogs talk to Billy at the sto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 on the playground fight Bil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body play games in the schooly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. Which of the following sentences does not contain a mista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mily love to eat dinner at 6:00 P.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one sees Billy in his overal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ld K. C. Baking Powder can fill to the top with coi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count his money every day until he has enough to buy the pup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. Choose the answer that is written correct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day brings a new joy to Bil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Little Ann or Old Dan play games through the woods going h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love his grandp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ound like the mountain lion would cry all night lo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in P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ch the Brain Pop movie, then try the quiz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brainpop.com/english/grammar/subjectverbagreement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big deal? Usually not. Here are a few rules just in case you find yourself confu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E4D4-593F-42D7-98CD-FE48168CB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E8D8-6973-404A-8A01-1DBABE81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C2EB-E79D-48D4-B813-C43134831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973E-E370-462B-9390-4B3D20111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D36E-2AAD-4DFC-B433-ECF76CEC0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C1AE-49CD-4F66-8272-278E29EF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818A0-8F41-4B9C-B736-759ACDE8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CA4B9-C609-4F7D-8CD2-C91FB80E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E10F-35D7-4BB6-BA28-D64320F3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6780-900A-4214-AC07-9B7D9CA7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AC5E-B236-42C2-98D9-C54DD1BB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373B-BE36-4F56-AF19-28D46F86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BD07B-E24A-4B16-9236-4DC29D07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1CF4-43B4-4566-BF39-A5F20698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6F81-46AA-4FAA-8404-B5C7F200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A33B-3325-472C-A51B-869B19EC4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D560D-8ED3-40B5-BEF0-0C56F2FAB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0CEB-E50B-4E1E-B4D6-0108537B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296B-CDF8-4B56-9728-32986A5A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9848-C630-45FC-866A-20D6C17C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8620-6F05-4023-BEDB-C09B9D31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A116-61A9-4377-A72E-83FA1E2F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EE3A-DA8A-4EE2-8D19-8CF08B82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70B3-1A6C-40AD-812F-E6922AE0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7AC3-7FB5-4F14-B9D2-1DBF7B18C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4621-1742-42B2-8E13-F5F44650F4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rainpop.com/english/grammar/subjectverbagreement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905120"/>
            <a:ext cx="883908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Subject/Verb Agreement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1066320"/>
            <a:ext cx="792792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plural words that come after the verb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’s biggest problem are the many sleepless night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’s biggest problem [singular subject] is [singular verb] the many sleepless night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und search for mountain lion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und searches for mountain lion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und searches for mountain lion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und search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ld Dan see raccoon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ld Dan sees raccoon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ld Dan sees raccoon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ld Dan se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44440"/>
            <a:ext cx="7927920" cy="592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plural words that come between a singular subject and the verb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opic of these books are dog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topic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[singular subject] of these book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[singular verb] dog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ch of the dogs hunt wel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ach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[singular subject] of the dog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unt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[singular verb] wel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ry one of the members of both hunting teams are he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very o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[singular subject] of the members of both hunting team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i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[singular verb] he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14400" y="1828440"/>
            <a:ext cx="77788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singular subject needs a singular verb, and a plural subject needs a plural verb. (Reminder:  The verb is the action word in the sentence. The subject is who or what does the action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ch of the traps needs to be set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ch of the traps need to be se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ch of the traps needs to be set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ch nee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oy in the brown shoes wants a lollipop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oy in the brown shoes want a lollipop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oy in the brown shoes wants a lollipop.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oy wa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1676160"/>
            <a:ext cx="80802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phrases such as along with, together with, accompanied by, as well as, including and in addition to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ttle Ann, as well as Old Dan, like to hun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ttle Ann [singular subject] , as well as Old Dan, likes [singular verb] to hun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7720" y="380520"/>
            <a:ext cx="8007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, in addition to all the other boys in the mountains, grow up loving hound dog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 [singular subject], in addition to all the other boys in the mountains, grows [singular verb] up loving hound dog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pa, as well as Mama, worries about Billy being out all night lo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pa, as well as Mama, worry about Billy being out all night lo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pa, as well as Mama, worries about Billy being out all night long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pa worr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rnbread, in addition to some warm milk, are good for puppi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rnbread, in addition to some warm milk, is good for puppi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1828440"/>
            <a:ext cx="8007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bjects and verbs must work together. They must agree. A verb that ends in a single -s, -es, or -ies  is used with a singular nou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rnbread, in addition to some warm milk, is good for puppies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rnbread 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244440"/>
            <a:ext cx="7775640" cy="508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either/or and neither/nor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Billy nor Little Ann knows which way the raccoon ra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oth parts are singular, so use a singular verb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the boys nor the girls know which way the raccoon ra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oth parts are plural, so use a plural verb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the dogs nor Billy knows which way the raccoon ra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One part is plural and one part is singular. The singular part comes right before the verb, so use a singular verb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Billy nor the hounds know which way the raccoon ra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One part is plural and one part is singular. The plural part comes right before the verb, so use a plural verb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7720" y="1219320"/>
            <a:ext cx="8007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ither Little Ann or Old Dan hunt during the heat of the summ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ither Little Ann or Old Dan hunts during the heat of the summ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the boys or their mother sings in the church choi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the boys or their mother sing in the church choi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the boys or their mother sings in the church choir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ther s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ither Grandpa or Billy grind corn at the general sto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ither Grandpa or Billy grinds corn at the general sto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xamp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838080" y="1905120"/>
          <a:ext cx="8007480" cy="4343400"/>
        </p:xfrm>
        <a:graphic>
          <a:graphicData uri="http://schemas.openxmlformats.org/drawingml/2006/table">
            <a:tbl>
              <a:tblPr/>
              <a:tblGrid>
                <a:gridCol w="3276720"/>
                <a:gridCol w="473076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Singular Subje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Singular Ver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d D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llow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tle An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r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w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x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)  Either Grandpa or Billy grinds corn at the general store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ither (one) grin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44080"/>
            <a:ext cx="7927920" cy="531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noun phrases referring to a single unit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7720" y="228600"/>
            <a:ext cx="80074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metimes a noun phrase sounds plural but describes something we think of as a single unit. These noun phrases take a singular verb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aghetti and meatballs is [singular] my favorite dinn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e cream and cake is [singular] my favorite desser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762120" y="121896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anut butter and jelly are Billy’s favorite sandwich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anut butter and jelly is Billy’s favorite sandwich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caroni and cheese is a healthy foo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caroni and cheese are a healthy foo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caroni and cheese is a healthy foo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244440"/>
            <a:ext cx="7851600" cy="539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nouns that look plural but are actually singular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37720" y="762120"/>
            <a:ext cx="8007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ew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[singular] of the coon hunt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pread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rough the tow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ump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[singular]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k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ne's cheeks hurt and causes swelling and fever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thematic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[singular]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y best subject in schoo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asles is contagiou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asles are contagiou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asles is contagiou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7720" y="1828440"/>
            <a:ext cx="8007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verb that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oes no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end in a single s, es, or ies is used with a plural nou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2640" y="1066320"/>
            <a:ext cx="7242120" cy="432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nouns of amount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e a singular verb with sums of money or periods of tim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37720" y="12189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ve hundred dollars are a lot of mone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ve hundred dollars is a lot of mone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ree hours are a long time to wai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ree hours is a long time to wai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rty dollar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y two coon hound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rty dollar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ys two coon hound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rty dollar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ys two coon hound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o years total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 long time for Billy to save his mone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o years tota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 long time for Billy to save his mone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o years total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 long time for Billy to save his mone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560" y="244440"/>
            <a:ext cx="8537400" cy="280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ractice – Number your paper from 1 to 15. Write the correct answer for each of the following items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3200040"/>
            <a:ext cx="800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.  Billy (fix, fixes) breakfast before heading hom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. The boy pup (play, plays) with the girl pup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xamp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838080" y="1905120"/>
          <a:ext cx="8007480" cy="4343400"/>
        </p:xfrm>
        <a:graphic>
          <a:graphicData uri="http://schemas.openxmlformats.org/drawingml/2006/table">
            <a:tbl>
              <a:tblPr/>
              <a:tblGrid>
                <a:gridCol w="4876920"/>
                <a:gridCol w="313056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Plural Subje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Plural Ver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d Dan and Little An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l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coon houn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two fir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lly’s par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. Each of the names (sound, sounds) perfect to Billy's ear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. With his extra money, Billy (buy, buys) gifts for his family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. Ma (cry, cries) with relief when she sees that Billy is saf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. Billy names the boy pup Old Dan. He (like, likes) the sound of the nam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7. Billy tells his sisters about the soda pop. It (taste, tastes) sweet and bubbly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8. The fire escape was a pipe that ran up the side of the building. It (appear, appears) funny-looking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9. Little Ann was the smartest of the two hounds. She (guide, guides) Old Dan out of troubl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0. Papa easily forgives Billy for running off. He (know, knows) he would have done the same thing at Billy's ag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1. Which of the following is written correct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 want to go to schoo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randpa loves to tease Bill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isy give milk each da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pa please Mama with a hu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51920" y="-360"/>
            <a:ext cx="89917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2. Which of the following sentences does not contain a mistak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he eat the candy one piece at a tim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ws spread quickly through the mountain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Billy or his grandpa like eating raw eggs 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spcBef>
                <a:spcPts val="799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lson Rawls narrates a wonderful story!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152280"/>
            <a:ext cx="8007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accoon [singular subject] jumps [singular verb] into the sycamore tre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accoons [plural subject] jump [plural verb] into the sycamore tre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ttle Ann [singular subject] is [singular verb] kind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ttle Ann and Old Dan [plural subject] are [plural verb] kin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1920" y="-360"/>
            <a:ext cx="89917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3. Choose the answer that is written correctl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of the dogs bellows through the night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oman with all the dogs talk to Billy at the stor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oy on the playground fight Billy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rybody play games in the schoolyar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4. Which of the following sentences does not contain a mistak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amily love to eat dinner at 6:00 P.M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ryone sees Billy in his overall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 old K. C. Baking Powder can fill to the top with coin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 count his money every day until he has enough to buy the pups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8390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5. Choose the answer that is written correctly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spcBef>
                <a:spcPts val="1001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ch day brings a new joy to Billy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spcBef>
                <a:spcPts val="1001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ither Little Ann or Old Dan play games through the woods going hom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spcBef>
                <a:spcPts val="1001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 love his grandpa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spcBef>
                <a:spcPts val="1001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t sound like the mountain lion would cry all night long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42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2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rain Po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 the Brain Pop movie, then try the quiz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www.brainpop.com/english/grammar/subjectverbagreement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62120" y="457200"/>
            <a:ext cx="8007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No big deal? Usually not. Here are a few rules just in case you find yourself confused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16:34:00Z</dcterms:created>
  <dc:creator>Gay  Miller</dc:creator>
  <dc:description/>
  <dc:language>en-US</dc:language>
  <cp:lastModifiedBy>RomaK</cp:lastModifiedBy>
  <dcterms:modified xsi:type="dcterms:W3CDTF">2015-09-02T09:38:20Z</dcterms:modified>
  <cp:revision>77</cp:revision>
  <dc:subject/>
  <dc:title>Subject/Verb Agreement </dc:title>
</cp:coreProperties>
</file>